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581-0BC6-4297-BA9B-A8651105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9051-A848-49C3-8AD4-1E5374DE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F7F-B03D-4424-B0C0-89216E47D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F3D6-A740-4E4D-BA24-4DC6EF47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CD0-7BFF-4B5A-B88F-E4AF3C7F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F77-D744-40CF-91D2-2E99FC85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03D9-CD86-4EA8-A0E8-8D5F8893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2D6-C5E2-498D-BA5D-1D5F84DB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B28-76BB-45FB-BBD1-1F8C47FC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D4A1-7F55-4D29-910E-F69362AD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E15-F9F3-4181-B968-7D329D2B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076-355C-4656-8CDB-12506062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C83FE3-6A95-4E1F-857F-F8242E4C17A0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5E82C3-AB71-4156-90A9-692EF0F3D8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rb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merican Li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rb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word or group of words that expresses time while showing an action, a condition, or the fact that something exis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 make statements, ask questions, or deliver comman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very complete sentence must have at least one ver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tion and Linking Verb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ction: is a verb that tells what action someone or something is performing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an be visible or menta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: Tim baked an apple pi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: I thought of you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king: is a verb that connects its subject with a noun, pronoun, or adjective that identifies or describes the subjec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x: That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man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a famous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hockey player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ice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surfac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alibri"/>
              </a:rPr>
              <a:t>seems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Calibri"/>
              </a:rPr>
              <a:t>smooth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forms of b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The verb be is the most common linking verb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-most often, the forms of be that function as linking verbs express the condition of the subject, but they may also express existence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Ex: The skater </a:t>
            </a:r>
            <a:r>
              <a:rPr b="0" lang="en-US" sz="2700" spc="-1" strike="noStrike" u="sng">
                <a:solidFill>
                  <a:srgbClr val="ffffff"/>
                </a:solidFill>
                <a:uFillTx/>
                <a:latin typeface="Calibri"/>
              </a:rPr>
              <a:t>is</a:t>
            </a: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 on the ice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ee chart on page 375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other linking verbs –see chart on page 375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some other linking verbs may also be action verbs-depends on the context of the sentence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Linking: The air felt cold.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ction: The skiers felt a chilly wind. </a:t>
            </a:r>
            <a:endParaRPr b="0" lang="en-US" sz="27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rbs: Either Transitive and Intransitiv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itive: directs action toward someone or something named in the same sent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 word toward which a transitive word directs its action is called the object of the ver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determine the object by asking whom or what after the verb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ansitive: does not direct attention toward anyone or anything named in the same sent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linking verbs do not express action, so they are always intransitiv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ransitiv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 drove the car around the bloc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climbed the mountain that wint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dangerous storm stopped the trip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transitive </a:t>
            </a: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e drove around the block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y climbed very slowl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trip was stopped when the storm came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rb Phr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verb that has more than one word is a verb phr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nsists of a main verb and one or more helping verb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ping verbs are often called auxiliary verb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many as 3 helping verbs may precede the main verb in a verb phra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Verb Phras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hould have take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horse-and-carriage ride through the snow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Shoul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I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take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 horse-and-carriage ride through the snow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will be go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he aren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y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will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on </a:t>
            </a:r>
            <a:r>
              <a:rPr b="0" i="1" lang="en-US" sz="3200" spc="-1" strike="noStrike">
                <a:solidFill>
                  <a:srgbClr val="ffffff"/>
                </a:solidFill>
                <a:latin typeface="Calibri"/>
              </a:rPr>
              <a:t>be going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o the arena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3:39:25Z</dcterms:created>
  <dc:creator>ndadmin</dc:creator>
  <dc:description/>
  <dc:language>en-US</dc:language>
  <cp:lastModifiedBy>ndadmin</cp:lastModifiedBy>
  <cp:lastPrinted>2008-11-04T18:55:47Z</cp:lastPrinted>
  <dcterms:modified xsi:type="dcterms:W3CDTF">2008-11-04T19:15:26Z</dcterms:modified>
  <cp:revision>4</cp:revision>
  <dc:subject/>
  <dc:title>Verbs</dc:title>
</cp:coreProperties>
</file>